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wmf" ContentType="image/x-wmf"/>
  <Override PartName="/ppt/media/image10.png" ContentType="image/png"/>
  <Override PartName="/ppt/media/image5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18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ftr" idx="19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 type="sldNum" idx="20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B46BFDA-296A-458D-9B4A-E4BD4159C1F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3CBCC6B-6A93-4767-909E-2B6FC44A365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A055FFE-E687-47C3-95D6-9421A396EC0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8A9F-EB39-43A8-B83F-494A66FC4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129D-13EA-441F-89D4-B6EABABC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81F7A7-A758-4A0A-9DEE-64670A0595A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38C8DC-5CD5-407B-9704-92005154903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C57341-0923-4B12-9AE3-EF7C58E573F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A531C9-6AD7-4AFE-96AC-B433D21BD36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0A64B6-218E-405A-82FE-383D060C602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476B5D-2B5A-4F2F-825C-A072DBBF125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F5EF46-08E9-43D3-90D9-53762F22DA0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FC66D4-C8AD-40A5-8321-B16D98C8E67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74C8A5-D86E-4D31-A0C5-2C3329BFC0E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FD8C8F-CD6C-4E14-A795-EDC74E49ED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D35B-11D1-487B-BC59-6968A52E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836640-FC36-4590-ACC4-2CB0272F81A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2DB1D1-F30F-42F7-BB23-D0C94D8BD58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38381C-5D40-4ADC-A75A-7ABAEACBBF6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373575-6775-4C6D-A274-A3F27D014AE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C1EF86-27AA-4BC7-A209-0AEDBF1F38C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DB7FF7-8C51-4325-8158-9CFC3002F77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7D9DD1-581E-4705-B5C0-ACC8DC65941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47466F-978A-43D7-B34E-0BCF92FD11B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403A7C-B7C0-4850-8C20-38BA5005449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A880DA-0ED2-43AB-A3F4-C5EE836978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9E20-C744-4C10-89A2-98FBBE9CC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9DFA3F-AEE7-4BEC-96D4-02BC84F04A8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C9629-BBF2-4E4B-9676-02DABA82694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3165C-5808-43E4-9CB1-D547D4617A7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3B622-AD78-4553-9607-72CB5102DBE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D367C-B8B6-4DB1-AF62-42B74886223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039CB-DACB-454D-8A32-C1BF1A66320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0A4F3-DC10-4290-BA1C-B31D77F0843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22FB5-F050-4470-87F9-3002BF9F944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06CFB-4E99-4838-8259-B236DB8F4A6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5DF6A-6268-41BE-A67D-A6EC0518A6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AC3E3-8013-4E70-9BD9-2770B228A4C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70672-70C2-40FD-A72C-9F572D4A828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3276A-2F57-46DF-A42A-82B82B86B32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FD90D5-45FB-4A01-96DA-95DDA02B140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E8E71E-824D-4B63-B288-7B6B0AE8728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2097E2-B60E-4B9E-ADCF-2EE05942A50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EFAADA-BA28-489C-8D6C-8E27AD8647D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25F5EB-BC0F-474C-AABC-CB7663081C8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3BC7B9-82AD-462A-95A3-3C00F8C354A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CE95FC-AFB3-400B-9076-25DC347FFD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B16A26-B814-48DB-9F24-E83936BA0A6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6AD4CB-8340-4110-88F8-A0EEBBEDB41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299B1D-7EEB-4139-8BC8-66235621950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8CD4DF-596C-42FF-A7BC-DE5C3B37C67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98B6B5-F930-4D28-AF50-2C67D8F7D5A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051CAC-97F3-4A34-B3A9-C4E877E18C5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6F43F1-E155-4D4E-9F6A-43F3387E848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89D314-5907-4C29-A78C-E193E899520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2D0D44-8B0B-4477-B5C7-8EF74BF4596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7F6155-7817-4E89-B1B8-F4BCE79535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547656-F0C7-4B7E-9BFE-1B86E2C242F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15E2B6-267A-44E9-8867-DC9D2D3ACD7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12BDA6-997E-479E-9504-0036031D20B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A1DCAF-B5AC-4B00-804C-1D72B3740E4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D6A365-42F6-4BD9-9EC9-7DBC0D78A2A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ACFF61-6A63-4EF1-90C4-FEB9F0E8E2B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A9EB38-2E55-488E-ABAF-807F886B81B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DD11C-609D-411A-9F0B-A25FB035663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F5A49-5AB1-4103-83FD-BD5E3BC1DEE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B15BD-8E44-4F7C-9815-5137A7B6F5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BADA6-E884-49AB-A402-912991A6019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8C76A-FB41-4333-B760-48DD73771D6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BA17C-579E-4C41-B12D-F26BEC68832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22EBE-FBA4-4E5C-9829-E4100FEDDFF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330B4-739E-423B-9341-74DE435E0F5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7A3E7-1416-4B9B-9479-172DBA4601B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E7279-FCD2-4654-8693-04FF6212559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A1C26-C5DC-4EC2-A73F-179BBE7631A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EC529-CE93-4DEE-ABFC-F540FF5AF6B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9D70F2-F374-4A9A-8884-838B5B5ED7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F40995-BBFC-42C8-A6BC-8EF079870F1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D94A37-C9BD-4774-9296-FB274B8060D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CE1D96-E029-407D-BA15-6F3279B715F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E08EE6-3738-456C-A9D9-3B0239B0852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26C233-9F2B-49E5-98C9-F87A3D04F01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E0787E-9789-4EED-AF8C-CB785CA75CE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33DC8C-12EF-4992-A778-F49A10F1291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1E7846-51D2-411C-8962-074023E807D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A02E60-74A4-483B-978E-F226DCCC359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2EDE5E-3947-462B-9EAC-DBDE70818A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278F85-B125-432E-9E47-6153CBF8C87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827B1B-646B-4B0A-8F43-EDBB8E525DF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AC44A7-3FEE-42C6-830F-2357E629B031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D1FB1C-8A9E-40E7-A418-95899E51709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410851-7EA8-4064-B98C-A37ACAA7EF6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BB95D4-13EB-40A7-8315-42121A77FA87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B2752E-07F3-4104-9DC8-81EB3335EA29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7DE6F9-2AD8-43EF-A697-796DE77A4AC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E6B825-BE5A-4845-9043-0FDED4B0D2A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C76A81-3506-4C62-89A0-F7DA6CA0BD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A59C4F-6D57-42AC-BF8D-AEB19A053AF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5F0477-F06B-4941-8153-4E3F4DF9CEB6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39A058-D10D-42E8-9D92-FD48807E4F8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5F0D-2812-49BB-8754-A8B92B20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70A9B-DB42-45FD-9ADC-9EFF1D02082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7804C-8802-4316-BAF1-02EC6E9D0E1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86452-7CF5-4CF0-A9B5-3AD3B5C0814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04EAE-8E31-410A-901F-E6F367DA293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7EAA9-8B77-486C-BD65-3F78330CDC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4C75-281A-458A-AD0F-4CA42158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E4182-2D16-45B8-BF7C-ED8E397A865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894FD-3E5F-4A38-8063-79A2D9AA6D6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723BC-23A7-40E1-857A-897ED630D49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9586A-7C0E-4C89-92F0-316ACDFAA2A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79D763-F10D-4AAA-A9D4-0D7AEB14186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1B2EC-8263-4590-ADA3-9E2FD0D4BD4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5A6EE-7A6E-465E-9E03-E567B2A35D0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F2E0A-C361-4F06-9925-CFD6C6A6827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38A6D-E9DE-4B51-8362-0F3D7B071A4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7D497-98BD-47E4-B5D3-54358EDCB7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0753-A64A-4D07-AFB9-AEBDBC11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CE0C6-AE44-4F69-936C-4DDF534E866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B629E-6385-4EE4-A1B1-6D1F63071D5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7F227-CC10-473A-9D5B-488A4FEB8CE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F30D3-C677-42B9-91BC-5E9748BBCDB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915C7-2068-424A-B53A-4CB2E511C5B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1C71A-CEB3-415A-9285-8E098628091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4ACCC-1884-4649-8484-D4569801F95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E4808C-5B93-4D57-8B1A-AEB366B320B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00BEB-F05B-47FD-814F-DE5B3DF57B7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2E59-0051-40AD-91D3-9651D2E891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C9FB-D9CA-4E26-9D7A-1A943DA1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2F85-43D2-41C4-8A66-F5A2A451453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6BA8-DFB6-41D6-A38F-38B796306E8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4313-8A87-49A9-A8BD-07C51D36515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364B-8137-4560-816A-DF94E1AE5A2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FCCB-D5BC-43E6-90E3-2B49863CFA7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B78B-1686-4B69-891C-1B93D0968E1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E879-C182-40C4-93CD-A97C6CBB1E4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E090-DDB0-48C7-8684-BF6FDA40B57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383D-B230-4DC5-83CE-4C432A2A8A8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4D02-9096-4896-97A5-173634F147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982A-1880-4512-9CF5-7E70B2F2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89C1-F273-472F-B5B1-E777484B72C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2F53A4-3C94-4ACE-85C3-5F4406663EF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39C03E-C1FE-4D20-AB98-82149705901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F7058D-0547-456B-B301-7A1585DD6BD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F7F2EC-4EA3-4CE2-A05E-60ECF7374DE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B1FF39-A5A7-4D7C-AF69-EF5C711D71A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3BD6E0-B2D0-4559-BE60-371F1D35542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072A9D-9617-45A4-A6BC-D06C16C7DC2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1904AF-77C4-48F6-8281-8ECBF79DC16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B7642A-77A0-43FB-A536-156E88FF58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D3C6-A67D-45C3-9912-5A5A099F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DAF113-C758-4D16-90E9-0FD7A85A3D4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C34316-DCE2-4ED0-833D-B79F917549D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2CA645-9473-4851-B6A2-665D345101D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27BF6F-C39D-4D13-82D4-B3DE36F8E45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DD6050-FCD2-421B-B2BE-5FFC29EB954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A5C3EB-EB35-4479-99E0-C45BDF6ED51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36FD7E-1679-45C9-B4EC-DE58EC9A130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5E3661-F446-4C4B-8151-306E5C29655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FD2237-4662-4ECE-A935-05FAC608114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4FA6DE-A0DF-4D21-800B-5B6A8C4D66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0677-EA62-4C96-9184-2C57FC0F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302FA2-C61C-49F4-8D7A-08DD2916114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DB9E5B-15CA-43E5-B02F-BDAADFE6186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B8E255-1813-4EF8-8602-C7A4D4F6094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AC4419-5679-4765-95ED-83518897182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BAD1F2-0DB5-4EE7-B0A0-F58A62FDDF1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C7225-9112-4240-BDA4-82DEE03646E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EE85D-753E-4949-95D8-B3F03DB1242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C9FBA-3579-4649-BBF2-162B738711D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3C4A0-FD67-4D0E-8D33-F19F3A6AD87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F7FA4-D360-4DC7-A0D5-A25B9EEB99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A0FF-135E-4B59-A0D9-CA6EA9A0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5CC04-A832-4ECD-A17C-FBF3FAB8D94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9FF74-8971-4E68-941F-5017D24DAAB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75E87-280B-46A1-A443-CBF9895F78C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E5B27-A5EB-4E1A-9A21-BAC1D823589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CD011-ACEA-41C0-97B7-80019E8E478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3DCC3-E522-48DE-A7C7-BB0D4E38E9E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629C6-1988-46E1-A5C4-4EB5D480F35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A53C64-51E1-4471-B0AE-EB6E4DAE1E2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CC41C8-8963-4C17-836B-6C97075F5B4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9F539D-12E4-4736-BB65-3F52A8C143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DB39DE5-71E1-403D-A753-B62666F4068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BF3C87A-F2F6-4AC7-8BC3-B6AC333E17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6D53F60-5BDC-4342-BF91-258A8C65F31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626468E-95E4-42C1-A68E-6C673360B77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894E8CA-AEE5-4ED2-80EE-00CA55C7DAA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71E92D6-3DF0-41C5-9C25-3603DAC9CA7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7F5E8E0-0F83-4EF2-AEC8-4D4DAB2B68A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36FD78A-6597-4C91-B741-B3A05ACA780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F3B3437-9CE2-4B74-A56C-24FB3ED7DC5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A0455FE-0B6B-4CCA-B864-E677E2F3A0D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12266C4-E8D6-4586-B5FA-5C33B5F2500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B5F559E-6B28-4F06-8E4D-EF0D908A35F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1F544A0-11EE-441A-9173-ADF4BBEF6A6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3E9FB34-5204-444A-B220-F3B846B9CB3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561A87B-D706-4A76-8FA7-9160754D3F9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CEACF90-2F0A-4A9F-AE38-31320AA60B2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sagatavošanas seminārs </a:t>
            </a:r>
            <a:br>
              <a:rPr sz="2800"/>
            </a:b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30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šu pieteikumu sagatavošana un iesniegšana Espresso sistēm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238480" y="4300560"/>
            <a:ext cx="5829120" cy="666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2024.gada 5. septembrī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42" name="Text Placeholder 3"/>
          <p:cNvSpPr/>
          <p:nvPr/>
        </p:nvSpPr>
        <p:spPr>
          <a:xfrm flipV="1" rot="10800000">
            <a:off x="3795840" y="5178600"/>
            <a:ext cx="4868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VIAA Izglītības atbalsta un starptautiskās sadarbības departamenta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D5710A6-A9A9-46C3-B97C-2967AAC53BA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0b050"/>
                </a:solidFill>
                <a:latin typeface="Verdana"/>
                <a:ea typeface="Verdana"/>
              </a:rPr>
              <a:t>Par studiju vizītēm – jaunu projektu veidu Nordplus Jauniešu apakšprogrammā -  atsevišķs seminārs 06.09.24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Box 10"/>
          <p:cNvSpPr/>
          <p:nvPr/>
        </p:nvSpPr>
        <p:spPr>
          <a:xfrm>
            <a:off x="250920" y="3706920"/>
            <a:ext cx="346536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Calibri"/>
              </a:rPr>
              <a:t>https://www.viaa.gov.lv/lv/jaunums/aicinam-pieteikties-tiessaistes-seminaram-par-nordplus-2024-gada-studiju-vizisu-konkursu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Picture 2" descr=""/>
          <p:cNvPicPr/>
          <p:nvPr/>
        </p:nvPicPr>
        <p:blipFill>
          <a:blip r:embed="rId1"/>
          <a:stretch/>
        </p:blipFill>
        <p:spPr>
          <a:xfrm>
            <a:off x="4098960" y="2019240"/>
            <a:ext cx="443556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4" descr=""/>
          <p:cNvPicPr/>
          <p:nvPr/>
        </p:nvPicPr>
        <p:blipFill>
          <a:blip r:embed="rId1"/>
          <a:stretch/>
        </p:blipFill>
        <p:spPr>
          <a:xfrm>
            <a:off x="3179880" y="1238400"/>
            <a:ext cx="5816520" cy="5238720"/>
          </a:xfrm>
          <a:prstGeom prst="rect">
            <a:avLst/>
          </a:prstGeom>
          <a:ln w="0">
            <a:noFill/>
          </a:ln>
        </p:spPr>
      </p:pic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276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epieciešams ievadīt informāciju par savu un partneru organizāciju 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rdplus datubāzē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(ja tās vēl nav reģistrētas datu bāzē!)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bām organizācijām sistēma ģenerē 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pliecinājuma vēstules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, kuras jāparaksta visu projektā iesaisīto organizāciju/iestāžu paraksttiesīgajām personām, jāieskanē un jāpievieno pieteikumam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9CAF56C-919F-4F35-9F0A-68913200793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1" name="Straight Arrow Connector 8"/>
          <p:cNvCxnSpPr/>
          <p:nvPr/>
        </p:nvCxnSpPr>
        <p:spPr>
          <a:xfrm flipV="1">
            <a:off x="3098520" y="2082960"/>
            <a:ext cx="1600920" cy="336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2" name="Straight Arrow Connector 10"/>
          <p:cNvCxnSpPr/>
          <p:nvPr/>
        </p:nvCxnSpPr>
        <p:spPr>
          <a:xfrm flipV="1">
            <a:off x="3098520" y="2082600"/>
            <a:ext cx="3005640" cy="673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3" name="Straight Arrow Connector 12"/>
          <p:cNvCxnSpPr/>
          <p:nvPr/>
        </p:nvCxnSpPr>
        <p:spPr>
          <a:xfrm flipV="1">
            <a:off x="2819160" y="2082240"/>
            <a:ext cx="4966200" cy="16038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4" name="Title 1"/>
          <p:cNvSpPr/>
          <p:nvPr/>
        </p:nvSpPr>
        <p:spPr>
          <a:xfrm>
            <a:off x="2590920" y="196920"/>
            <a:ext cx="6095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b7d91"/>
                </a:solidFill>
                <a:latin typeface="Verdana"/>
                <a:ea typeface="Verdana"/>
              </a:rPr>
              <a:t>Projektā iesaistītās organizācijas – koordinators un partne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Picture 4" descr=""/>
          <p:cNvPicPr/>
          <p:nvPr/>
        </p:nvPicPr>
        <p:blipFill>
          <a:blip r:embed="rId1"/>
          <a:stretch/>
        </p:blipFill>
        <p:spPr>
          <a:xfrm>
            <a:off x="4673520" y="3238560"/>
            <a:ext cx="3152880" cy="320364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2" descr=""/>
          <p:cNvPicPr/>
          <p:nvPr/>
        </p:nvPicPr>
        <p:blipFill>
          <a:blip r:embed="rId2"/>
          <a:stretch/>
        </p:blipFill>
        <p:spPr>
          <a:xfrm>
            <a:off x="3878280" y="-214200"/>
            <a:ext cx="5478480" cy="3171600"/>
          </a:xfrm>
          <a:prstGeom prst="rect">
            <a:avLst/>
          </a:prstGeom>
          <a:ln w="0">
            <a:noFill/>
          </a:ln>
        </p:spPr>
      </p:pic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3479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teikti jāpārliecinās, vai partneru organizācija jau iepriekš nav reģistrēta Espresso sistēmā, ja nav, tad jāpievieno.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ngļu valodā jāizmanto tāds partneru organizācijas nosaukums, kādu organizācija lieto pati.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Straight Arrow Connector 9"/>
          <p:cNvCxnSpPr/>
          <p:nvPr/>
        </p:nvCxnSpPr>
        <p:spPr>
          <a:xfrm flipV="1">
            <a:off x="2850840" y="1166400"/>
            <a:ext cx="4537800" cy="7689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9" name="Left Arrow 13"/>
          <p:cNvSpPr/>
          <p:nvPr/>
        </p:nvSpPr>
        <p:spPr>
          <a:xfrm rot="16200000">
            <a:off x="5375160" y="2305080"/>
            <a:ext cx="1666800" cy="355320"/>
          </a:xfrm>
          <a:prstGeom prst="leftArrow">
            <a:avLst>
              <a:gd name="adj1" fmla="val 50000"/>
              <a:gd name="adj2" fmla="val 54533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Picture 6" descr=""/>
          <p:cNvPicPr/>
          <p:nvPr/>
        </p:nvPicPr>
        <p:blipFill>
          <a:blip r:embed="rId1"/>
          <a:srcRect l="0" t="0" r="4749" b="0"/>
          <a:stretch/>
        </p:blipFill>
        <p:spPr>
          <a:xfrm>
            <a:off x="611280" y="3151080"/>
            <a:ext cx="8172360" cy="2533680"/>
          </a:xfrm>
          <a:prstGeom prst="rect">
            <a:avLst/>
          </a:prstGeom>
          <a:ln w="0">
            <a:noFill/>
          </a:ln>
        </p:spPr>
      </p:pic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590560" y="196920"/>
            <a:ext cx="6095880" cy="776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Sagatavošanas vizītes apraks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itle 1"/>
          <p:cNvSpPr/>
          <p:nvPr/>
        </p:nvSpPr>
        <p:spPr>
          <a:xfrm>
            <a:off x="1128600" y="1914480"/>
            <a:ext cx="704232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Rokasgrāmata, 41. lpp (pdf),  sadaļa  «The Application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Picture 2" descr=""/>
          <p:cNvPicPr/>
          <p:nvPr/>
        </p:nvPicPr>
        <p:blipFill>
          <a:blip r:embed="rId1"/>
          <a:srcRect l="0" t="6166" r="0" b="0"/>
          <a:stretch/>
        </p:blipFill>
        <p:spPr>
          <a:xfrm>
            <a:off x="3218040" y="1709640"/>
            <a:ext cx="5759280" cy="4214880"/>
          </a:xfrm>
          <a:prstGeom prst="rect">
            <a:avLst/>
          </a:prstGeom>
          <a:ln w="0">
            <a:noFill/>
          </a:ln>
        </p:spPr>
      </p:pic>
      <p:sp>
        <p:nvSpPr>
          <p:cNvPr id="79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A144D27-996B-4B82-8C27-837A8782217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itle 1"/>
          <p:cNvSpPr/>
          <p:nvPr/>
        </p:nvSpPr>
        <p:spPr>
          <a:xfrm>
            <a:off x="0" y="1943280"/>
            <a:ext cx="223200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Īsi jāapraksta </a:t>
            </a:r>
            <a:r>
              <a:rPr b="1" lang="lv-LV" sz="1700" spc="-1" strike="noStrike">
                <a:solidFill>
                  <a:srgbClr val="002060"/>
                </a:solidFill>
                <a:latin typeface="Verdana"/>
              </a:rPr>
              <a:t>paredzamā  projekta iecer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Aprakstiem jābūt koncentrētiem -  un vienlaikus tiem jāsniedz skaidrs priekšstats gan par projekta ieceri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6" name="Straight Arrow Connector 12"/>
          <p:cNvCxnSpPr/>
          <p:nvPr/>
        </p:nvCxnSpPr>
        <p:spPr>
          <a:xfrm>
            <a:off x="1958760" y="2209320"/>
            <a:ext cx="3182040" cy="12358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7" descr=""/>
          <p:cNvPicPr/>
          <p:nvPr/>
        </p:nvPicPr>
        <p:blipFill>
          <a:blip r:embed="rId1"/>
          <a:srcRect l="0" t="6263" r="0" b="0"/>
          <a:stretch/>
        </p:blipFill>
        <p:spPr>
          <a:xfrm>
            <a:off x="3405240" y="933480"/>
            <a:ext cx="4903560" cy="4375080"/>
          </a:xfrm>
          <a:prstGeom prst="rect">
            <a:avLst/>
          </a:prstGeom>
          <a:ln w="0">
            <a:noFill/>
          </a:ln>
        </p:spPr>
      </p:pic>
      <p:sp>
        <p:nvSpPr>
          <p:cNvPr id="798" name="Title 1"/>
          <p:cNvSpPr/>
          <p:nvPr/>
        </p:nvSpPr>
        <p:spPr>
          <a:xfrm>
            <a:off x="0" y="1943280"/>
            <a:ext cx="2849400" cy="32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āapraksta </a:t>
            </a:r>
            <a:r>
              <a:rPr b="1" lang="lv-LV" sz="1800" spc="-1" strike="noStrike">
                <a:solidFill>
                  <a:srgbClr val="002060"/>
                </a:solidFill>
                <a:latin typeface="Verdana"/>
              </a:rPr>
              <a:t>vizītes darba kārtī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2060"/>
                </a:solidFill>
                <a:latin typeface="Verdana"/>
              </a:rPr>
              <a:t>Vizītes darba kārtībai jābalstās uz projekta pieteikuma plānošanu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(mērķi, uzdevumi, rezultāti, norise…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Picture 2" descr=""/>
          <p:cNvPicPr/>
          <p:nvPr/>
        </p:nvPicPr>
        <p:blipFill>
          <a:blip r:embed="rId1"/>
          <a:srcRect l="0" t="8694" r="0" b="0"/>
          <a:stretch/>
        </p:blipFill>
        <p:spPr>
          <a:xfrm>
            <a:off x="3948120" y="549360"/>
            <a:ext cx="4456080" cy="3079800"/>
          </a:xfrm>
          <a:prstGeom prst="rect">
            <a:avLst/>
          </a:prstGeom>
          <a:ln w="0">
            <a:noFill/>
          </a:ln>
        </p:spPr>
      </p:pic>
      <p:sp>
        <p:nvSpPr>
          <p:cNvPr id="800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863899F-A9AA-4F60-B0BA-122040C39A4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1" name="Straight Arrow Connector 9"/>
          <p:cNvCxnSpPr/>
          <p:nvPr/>
        </p:nvCxnSpPr>
        <p:spPr>
          <a:xfrm flipH="1">
            <a:off x="4258800" y="2095200"/>
            <a:ext cx="16560" cy="2265840"/>
          </a:xfrm>
          <a:prstGeom prst="straightConnector1">
            <a:avLst/>
          </a:prstGeom>
          <a:ln w="381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2" name="Title 1"/>
          <p:cNvSpPr/>
          <p:nvPr/>
        </p:nvSpPr>
        <p:spPr>
          <a:xfrm>
            <a:off x="0" y="1943280"/>
            <a:ext cx="30862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āieraksta dati – apmeklējamā valsts,  braucēju skaits (maks.2 personas)  un brauciena ilgums (maks. 5 dienas, ieskaitot ceļ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Picture 8" descr=""/>
          <p:cNvPicPr/>
          <p:nvPr/>
        </p:nvPicPr>
        <p:blipFill>
          <a:blip r:embed="rId2"/>
          <a:stretch/>
        </p:blipFill>
        <p:spPr>
          <a:xfrm>
            <a:off x="3208320" y="4361040"/>
            <a:ext cx="38289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4" descr=""/>
          <p:cNvPicPr/>
          <p:nvPr/>
        </p:nvPicPr>
        <p:blipFill>
          <a:blip r:embed="rId1"/>
          <a:srcRect l="0" t="0" r="0" b="76419"/>
          <a:stretch/>
        </p:blipFill>
        <p:spPr>
          <a:xfrm>
            <a:off x="4597560" y="4807080"/>
            <a:ext cx="3828960" cy="720720"/>
          </a:xfrm>
          <a:prstGeom prst="rect">
            <a:avLst/>
          </a:prstGeom>
          <a:ln w="0">
            <a:noFill/>
          </a:ln>
        </p:spPr>
      </p:pic>
      <p:sp>
        <p:nvSpPr>
          <p:cNvPr id="805" name="Title 1"/>
          <p:cNvSpPr/>
          <p:nvPr/>
        </p:nvSpPr>
        <p:spPr>
          <a:xfrm>
            <a:off x="0" y="1943280"/>
            <a:ext cx="22320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eprasīto budžetu sistēma aprēķina automātisk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itle 1"/>
          <p:cNvSpPr/>
          <p:nvPr/>
        </p:nvSpPr>
        <p:spPr>
          <a:xfrm>
            <a:off x="100080" y="4184640"/>
            <a:ext cx="344808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Obligāti jāpievieno partneru apliecinājuma vēstules (tai skaitā arī no savas organizācijas)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7" name="Straight Arrow Connector 6"/>
          <p:cNvCxnSpPr/>
          <p:nvPr/>
        </p:nvCxnSpPr>
        <p:spPr>
          <a:xfrm>
            <a:off x="2827440" y="4327200"/>
            <a:ext cx="1745280" cy="6260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08" name="Picture 2" descr=""/>
          <p:cNvPicPr/>
          <p:nvPr/>
        </p:nvPicPr>
        <p:blipFill>
          <a:blip r:embed="rId2"/>
          <a:srcRect l="0" t="15722" r="0" b="0"/>
          <a:stretch/>
        </p:blipFill>
        <p:spPr>
          <a:xfrm>
            <a:off x="2749680" y="2050920"/>
            <a:ext cx="567684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itle 1"/>
          <p:cNvSpPr/>
          <p:nvPr/>
        </p:nvSpPr>
        <p:spPr>
          <a:xfrm>
            <a:off x="0" y="1943280"/>
            <a:ext cx="2476440" cy="42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Iespēja aplūkot/lejuplādēt projekta pieteiku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Verdana"/>
              </a:rPr>
              <a:t>Atgādinājums par   prasībām, kuras neievērojot, pieteikums netiks izskatīts</a:t>
            </a: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(vismaz 2 organizācijas no 2 dažādām valstīm; apliecinājuma vēstules no katras iesaistītās organizācij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0" name="Straight Arrow Connector 8"/>
          <p:cNvCxnSpPr/>
          <p:nvPr/>
        </p:nvCxnSpPr>
        <p:spPr>
          <a:xfrm>
            <a:off x="1714320" y="2827440"/>
            <a:ext cx="1410120" cy="10166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11" name="Straight Arrow Connector 11"/>
          <p:cNvCxnSpPr/>
          <p:nvPr/>
        </p:nvCxnSpPr>
        <p:spPr>
          <a:xfrm>
            <a:off x="2095200" y="5024160"/>
            <a:ext cx="76284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12" name="Picture 2" descr=""/>
          <p:cNvPicPr/>
          <p:nvPr/>
        </p:nvPicPr>
        <p:blipFill>
          <a:blip r:embed="rId1"/>
          <a:srcRect l="0" t="9362" r="0" b="0"/>
          <a:stretch/>
        </p:blipFill>
        <p:spPr>
          <a:xfrm>
            <a:off x="3124080" y="2827440"/>
            <a:ext cx="563904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4FD338B-E5B0-458C-B0F6-ECF2811AD87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itle 1"/>
          <p:cNvSpPr/>
          <p:nvPr/>
        </p:nvSpPr>
        <p:spPr>
          <a:xfrm>
            <a:off x="0" y="1943280"/>
            <a:ext cx="233208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! Ja sagatavošanas vizītes pieteikums tiks atbalstīts, šie bankas rekvizīti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tiks ietverti līgumā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un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uz norādīto kontu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tiks pārskaitīts piešķirtais finansējums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Pie bankas rekvizītiem – «Your reference» ir organizācijas iekšējais identifikators (ja tāds ir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Picture 1" descr=""/>
          <p:cNvPicPr/>
          <p:nvPr/>
        </p:nvPicPr>
        <p:blipFill>
          <a:blip r:embed="rId1"/>
          <a:stretch/>
        </p:blipFill>
        <p:spPr>
          <a:xfrm>
            <a:off x="2604960" y="895320"/>
            <a:ext cx="5762880" cy="5429160"/>
          </a:xfrm>
          <a:prstGeom prst="rect">
            <a:avLst/>
          </a:prstGeom>
          <a:ln w="0">
            <a:noFill/>
          </a:ln>
        </p:spPr>
      </p:pic>
      <p:cxnSp>
        <p:nvCxnSpPr>
          <p:cNvPr id="816" name="Straight Arrow Connector 2"/>
          <p:cNvCxnSpPr/>
          <p:nvPr/>
        </p:nvCxnSpPr>
        <p:spPr>
          <a:xfrm>
            <a:off x="2158560" y="4808160"/>
            <a:ext cx="57708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am ir jābūt zināmam  sagatavošanas vizītes pieteikuma iesniegšanas brīdī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2012760" y="1775880"/>
            <a:ext cx="6870600" cy="4316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ādā apakšprogrammā (</a:t>
            </a:r>
            <a:r>
              <a:rPr b="0" i="1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Junior, Adult, Nordic Languages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) paredzēts iesniegt projekt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as būs projekta partner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Projekta ideja – ko un kāpēc plānots darīt, kādi būs iespējamie rezultāti un ietek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s paredzamā darba kārtīb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itle 1"/>
          <p:cNvSpPr/>
          <p:nvPr/>
        </p:nvSpPr>
        <p:spPr>
          <a:xfrm>
            <a:off x="106200" y="2120760"/>
            <a:ext cx="2476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rms iesniegšanas sistēma pārbauda, vai ir aizpildītas visas pieteikuma sadaļas un nepieļauj iesniegt daļēji aizpildītu pieteiku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Picture 2" descr=""/>
          <p:cNvPicPr/>
          <p:nvPr/>
        </p:nvPicPr>
        <p:blipFill>
          <a:blip r:embed="rId1"/>
          <a:stretch/>
        </p:blipFill>
        <p:spPr>
          <a:xfrm>
            <a:off x="2789280" y="1290600"/>
            <a:ext cx="60451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 txBox="1"/>
          <p:nvPr/>
        </p:nvSpPr>
        <p:spPr>
          <a:xfrm>
            <a:off x="1587240" y="104940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Jautājumu gadījumā lūdzu sazinā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frank.krohn@hkdir.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ff0000"/>
                </a:solidFill>
                <a:latin typeface="Calibri"/>
                <a:ea typeface="Verdana"/>
              </a:rPr>
              <a:t>VIAA sagatavotajiem materiāliem ir </a:t>
            </a:r>
            <a:r>
              <a:rPr b="1" lang="lv-LV" sz="2000" spc="-1" strike="noStrike" u="sng">
                <a:solidFill>
                  <a:srgbClr val="ff0000"/>
                </a:solidFill>
                <a:uFillTx/>
                <a:latin typeface="Calibri"/>
                <a:ea typeface="Verdana"/>
              </a:rPr>
              <a:t>informatīvs un paskaidrojošs raksturs</a:t>
            </a:r>
            <a:r>
              <a:rPr b="1" lang="lv-LV" sz="2000" spc="-1" strike="noStrike">
                <a:solidFill>
                  <a:srgbClr val="ff0000"/>
                </a:solidFill>
                <a:latin typeface="Calibri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rojektu pieteicējiem ir saistoši dokumenti, kas publicēti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www.nordplusonlin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Vispārīgā informā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Content Placeholder 1" descr=""/>
          <p:cNvPicPr/>
          <p:nvPr/>
        </p:nvPicPr>
        <p:blipFill>
          <a:blip r:embed="rId1"/>
          <a:stretch/>
        </p:blipFill>
        <p:spPr>
          <a:xfrm>
            <a:off x="2901960" y="1695600"/>
            <a:ext cx="5907240" cy="40719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2" descr=""/>
          <p:cNvPicPr/>
          <p:nvPr/>
        </p:nvPicPr>
        <p:blipFill>
          <a:blip r:embed="rId2"/>
          <a:stretch/>
        </p:blipFill>
        <p:spPr>
          <a:xfrm>
            <a:off x="5924520" y="3772080"/>
            <a:ext cx="3156120" cy="957240"/>
          </a:xfrm>
          <a:prstGeom prst="rect">
            <a:avLst/>
          </a:prstGeom>
          <a:ln w="0">
            <a:noFill/>
          </a:ln>
        </p:spPr>
      </p:pic>
      <p:sp>
        <p:nvSpPr>
          <p:cNvPr id="749" name="Title 1"/>
          <p:cNvSpPr/>
          <p:nvPr/>
        </p:nvSpPr>
        <p:spPr>
          <a:xfrm>
            <a:off x="-165240" y="2860560"/>
            <a:ext cx="301644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1828800" y="1252440"/>
            <a:ext cx="722304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2500" spc="-1" strike="noStrike">
                <a:solidFill>
                  <a:srgbClr val="000000"/>
                </a:solidFill>
                <a:latin typeface="Verdana"/>
                <a:ea typeface="Verdana"/>
              </a:rPr>
              <a:t>https://espresso.diku.no/espresso/login?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2" name="Picture 2" descr=""/>
          <p:cNvPicPr/>
          <p:nvPr/>
        </p:nvPicPr>
        <p:blipFill>
          <a:blip r:embed="rId1"/>
          <a:srcRect l="0" t="26520" r="0" b="0"/>
          <a:stretch/>
        </p:blipFill>
        <p:spPr>
          <a:xfrm>
            <a:off x="2490840" y="3040200"/>
            <a:ext cx="5838840" cy="2436840"/>
          </a:xfrm>
          <a:prstGeom prst="rect">
            <a:avLst/>
          </a:prstGeom>
          <a:ln w="0">
            <a:noFill/>
          </a:ln>
        </p:spPr>
      </p:pic>
      <p:sp>
        <p:nvSpPr>
          <p:cNvPr id="753" name="Left Arrow 6"/>
          <p:cNvSpPr/>
          <p:nvPr/>
        </p:nvSpPr>
        <p:spPr>
          <a:xfrm rot="1692600">
            <a:off x="7089480" y="4576320"/>
            <a:ext cx="1720800" cy="552600"/>
          </a:xfrm>
          <a:prstGeom prst="leftArrow">
            <a:avLst>
              <a:gd name="adj1" fmla="val 50000"/>
              <a:gd name="adj2" fmla="val 5448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2012760" y="1393560"/>
            <a:ext cx="6870600" cy="74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3200" spc="-1" strike="noStrike">
                <a:solidFill>
                  <a:srgbClr val="1f4e79"/>
                </a:solidFill>
                <a:latin typeface="Calibri"/>
                <a:ea typeface="Verdana"/>
              </a:rPr>
              <a:t>https://espresso.dik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6" name="Picture 1" descr=""/>
          <p:cNvPicPr/>
          <p:nvPr/>
        </p:nvPicPr>
        <p:blipFill>
          <a:blip r:embed="rId1"/>
          <a:srcRect l="0" t="24891" r="0" b="0"/>
          <a:stretch/>
        </p:blipFill>
        <p:spPr>
          <a:xfrm>
            <a:off x="4025880" y="4721400"/>
            <a:ext cx="4660920" cy="20412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"/>
          <p:cNvPicPr/>
          <p:nvPr/>
        </p:nvPicPr>
        <p:blipFill>
          <a:blip r:embed="rId2"/>
          <a:stretch/>
        </p:blipFill>
        <p:spPr>
          <a:xfrm>
            <a:off x="2660760" y="2238480"/>
            <a:ext cx="4916520" cy="2036520"/>
          </a:xfrm>
          <a:prstGeom prst="rect">
            <a:avLst/>
          </a:prstGeom>
          <a:ln w="0">
            <a:noFill/>
          </a:ln>
        </p:spPr>
      </p:pic>
      <p:cxnSp>
        <p:nvCxnSpPr>
          <p:cNvPr id="758" name="Straight Arrow Connector 4"/>
          <p:cNvCxnSpPr/>
          <p:nvPr/>
        </p:nvCxnSpPr>
        <p:spPr>
          <a:xfrm>
            <a:off x="5638320" y="3633840"/>
            <a:ext cx="1080" cy="127080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2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267440"/>
          </a:xfrm>
          <a:prstGeom prst="rect">
            <a:avLst/>
          </a:prstGeom>
          <a:ln w="0">
            <a:noFill/>
          </a:ln>
        </p:spPr>
      </p:pic>
      <p:sp>
        <p:nvSpPr>
          <p:cNvPr id="761" name="Left Arrow 6"/>
          <p:cNvSpPr/>
          <p:nvPr/>
        </p:nvSpPr>
        <p:spPr>
          <a:xfrm rot="8365800">
            <a:off x="2230200" y="5498640"/>
            <a:ext cx="3019320" cy="530280"/>
          </a:xfrm>
          <a:prstGeom prst="leftArrow">
            <a:avLst>
              <a:gd name="adj1" fmla="val 50000"/>
              <a:gd name="adj2" fmla="val 54434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091960" y="415440"/>
            <a:ext cx="6095880" cy="776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Izvēlamies apakšprogrammu, kurā iesniegsim sagatavošanas vizītes pieteikum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4" name="Picture 2" descr=""/>
          <p:cNvPicPr/>
          <p:nvPr/>
        </p:nvPicPr>
        <p:blipFill>
          <a:blip r:embed="rId2"/>
          <a:stretch/>
        </p:blipFill>
        <p:spPr>
          <a:xfrm>
            <a:off x="1541520" y="1824120"/>
            <a:ext cx="7197840" cy="39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1094913-312A-4B2B-A34A-119D486EA66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-360" y="1942920"/>
            <a:ext cx="2590920" cy="22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7" name="Picture 2" descr=""/>
          <p:cNvPicPr/>
          <p:nvPr/>
        </p:nvPicPr>
        <p:blipFill>
          <a:blip r:embed="rId1"/>
          <a:stretch/>
        </p:blipFill>
        <p:spPr>
          <a:xfrm>
            <a:off x="2478240" y="426960"/>
            <a:ext cx="6183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65D364C-7DAB-44B8-90A6-FAB38EF17E7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-360" y="1942920"/>
            <a:ext cx="2801880" cy="1485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zvēlamies projekta veidu – šajā gadījumā – 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sagatavošanas vizīti («Preparatory visit») 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Picture 7" descr="A screenshot of a computer&#10;&#10;Description automatically generated"/>
          <p:cNvPicPr/>
          <p:nvPr/>
        </p:nvPicPr>
        <p:blipFill>
          <a:blip r:embed="rId1"/>
          <a:srcRect l="8189" t="15003" r="56997" b="25478"/>
          <a:stretch/>
        </p:blipFill>
        <p:spPr>
          <a:xfrm>
            <a:off x="3143160" y="228600"/>
            <a:ext cx="5391360" cy="5761080"/>
          </a:xfrm>
          <a:prstGeom prst="rect">
            <a:avLst/>
          </a:prstGeom>
          <a:ln w="0">
            <a:noFill/>
          </a:ln>
        </p:spPr>
      </p:pic>
      <p:cxnSp>
        <p:nvCxnSpPr>
          <p:cNvPr id="771" name="Straight Arrow Connector 9"/>
          <p:cNvCxnSpPr/>
          <p:nvPr/>
        </p:nvCxnSpPr>
        <p:spPr>
          <a:xfrm>
            <a:off x="2090520" y="3230640"/>
            <a:ext cx="1532520" cy="169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772" name="Title 1"/>
          <p:cNvSpPr/>
          <p:nvPr/>
        </p:nvSpPr>
        <p:spPr>
          <a:xfrm>
            <a:off x="54000" y="4772160"/>
            <a:ext cx="203688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 algn="ctr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!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Studiju vizīte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r </a:t>
            </a: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cits projektu veids (seminārs 06.09.24.)</a:t>
            </a:r>
            <a:br>
              <a:rPr sz="1600"/>
            </a:br>
            <a:r>
              <a:rPr b="0" lang="lv-LV" sz="1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Straight Arrow Connector 12"/>
          <p:cNvCxnSpPr/>
          <p:nvPr/>
        </p:nvCxnSpPr>
        <p:spPr>
          <a:xfrm>
            <a:off x="1662120" y="5106600"/>
            <a:ext cx="1961280" cy="83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23-09-06T10:38:28Z</cp:lastPrinted>
  <dcterms:modified xsi:type="dcterms:W3CDTF">2024-09-05T13:12:12Z</dcterms:modified>
  <cp:revision>179</cp:revision>
  <dc:subject/>
  <dc:title>PowerPoint Presentation</dc:title>
</cp:coreProperties>
</file>